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78B-86A1-4716-8933-129979F4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70F0-06AB-47A2-9158-8170E965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DF2-6F40-4F8D-B6FC-1BC62B05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9B4-4103-46EF-8852-A2273F2A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89C-C25A-4F19-9084-F9DB3B26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4C5-BA51-4278-928F-584AC4AD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468-001A-4D5A-A4FF-C3F007A9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B918-EC98-4BD3-86F1-15E6037A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17A-AF7E-4FD2-9590-0412733D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BD1-6667-44E6-9955-FBE87CA5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49E0-9578-4473-A5E5-0AD51DC4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99E-E95C-4C6B-A799-1F709EA3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8A37-7088-42C9-A754-7C3F4F244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69720" y="808200"/>
            <a:ext cx="8336160" cy="57639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5033880" y="2265480"/>
            <a:ext cx="514440" cy="43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332840" y="2884320"/>
            <a:ext cx="74124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’-0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547040" y="5305320"/>
            <a:ext cx="74124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’-6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357800" y="3568680"/>
            <a:ext cx="56016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-0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034480" y="4622760"/>
            <a:ext cx="56016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’-11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5475240" y="6292800"/>
            <a:ext cx="70020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2’-4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183280" y="5931000"/>
            <a:ext cx="56016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’-0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23920" y="4591080"/>
            <a:ext cx="56016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’-6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983360" y="4165560"/>
            <a:ext cx="56052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’-3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7608960" y="4813200"/>
            <a:ext cx="56016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’-3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2293920" y="3581280"/>
            <a:ext cx="560520" cy="2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’-0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5106960" y="927000"/>
            <a:ext cx="4078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’-5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3983040" y="5165640"/>
            <a:ext cx="2986200" cy="5209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5014800" y="1405080"/>
            <a:ext cx="561960" cy="29890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4245120" y="4417920"/>
            <a:ext cx="3187440" cy="5493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1049400" y="4411800"/>
            <a:ext cx="2986200" cy="5205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20"/>
          <p:cNvSpPr/>
          <p:nvPr/>
        </p:nvSpPr>
        <p:spPr>
          <a:xfrm>
            <a:off x="1282680" y="5425920"/>
            <a:ext cx="1225440" cy="506520"/>
          </a:xfrm>
          <a:prstGeom prst="upArrowCallout">
            <a:avLst>
              <a:gd name="adj1" fmla="val 86499"/>
              <a:gd name="adj2" fmla="val 81484"/>
              <a:gd name="adj3" fmla="val 29153"/>
              <a:gd name="adj4" fmla="val 9905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let Air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2122560" y="4516560"/>
            <a:ext cx="1485720" cy="31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let Filter Tra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4367160" y="5246640"/>
            <a:ext cx="1486080" cy="31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xiliary Tra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5638680" y="4038480"/>
            <a:ext cx="2179800" cy="31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rbine Generator Tra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5638680" y="1812960"/>
            <a:ext cx="1486080" cy="3175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haust Tra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1038240" y="763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7423200" y="7491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4834080" y="879480"/>
            <a:ext cx="2581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8"/>
          <p:cNvSpPr/>
          <p:nvPr/>
        </p:nvSpPr>
        <p:spPr>
          <a:xfrm flipH="1">
            <a:off x="1037880" y="879480"/>
            <a:ext cx="2987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9"/>
          <p:cNvSpPr/>
          <p:nvPr/>
        </p:nvSpPr>
        <p:spPr>
          <a:xfrm>
            <a:off x="8334360" y="3213000"/>
            <a:ext cx="560520" cy="2253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9’-4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4111560" y="779400"/>
            <a:ext cx="676440" cy="2253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3’-4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8485200" y="1355760"/>
            <a:ext cx="24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 flipV="1">
            <a:off x="8613720" y="1357200"/>
            <a:ext cx="0" cy="1702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8613720" y="3608280"/>
            <a:ext cx="0" cy="20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4"/>
          <p:cNvSpPr/>
          <p:nvPr/>
        </p:nvSpPr>
        <p:spPr>
          <a:xfrm>
            <a:off x="8470800" y="568476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1219320" y="762120"/>
            <a:ext cx="6864120" cy="5649480"/>
            <a:chOff x="1219320" y="762120"/>
            <a:chExt cx="6864120" cy="5649480"/>
          </a:xfrm>
        </p:grpSpPr>
        <p:grpSp>
          <p:nvGrpSpPr>
            <p:cNvPr id="74" name="Group 3"/>
            <p:cNvGrpSpPr/>
            <p:nvPr/>
          </p:nvGrpSpPr>
          <p:grpSpPr>
            <a:xfrm>
              <a:off x="1220400" y="1229040"/>
              <a:ext cx="6793920" cy="5182200"/>
              <a:chOff x="1220400" y="1229040"/>
              <a:chExt cx="6793920" cy="5182200"/>
            </a:xfrm>
          </p:grpSpPr>
          <p:sp>
            <p:nvSpPr>
              <p:cNvPr id="75" name="Freeform 4"/>
              <p:cNvSpPr/>
              <p:nvPr/>
            </p:nvSpPr>
            <p:spPr>
              <a:xfrm>
                <a:off x="2702520" y="2832840"/>
                <a:ext cx="5311800" cy="3578400"/>
              </a:xfrm>
              <a:custGeom>
                <a:avLst/>
                <a:gdLst>
                  <a:gd name="textAreaLeft" fmla="*/ 0 w 5311800"/>
                  <a:gd name="textAreaRight" fmla="*/ 5312160 w 5311800"/>
                  <a:gd name="textAreaTop" fmla="*/ 0 h 3578400"/>
                  <a:gd name="textAreaBottom" fmla="*/ 3578760 h 3578400"/>
                </a:gdLst>
                <a:ahLst/>
                <a:rect l="textAreaLeft" t="textAreaTop" r="textAreaRight" b="textAreaBottom"/>
                <a:pathLst>
                  <a:path w="4128" h="2784">
                    <a:moveTo>
                      <a:pt x="0" y="2304"/>
                    </a:moveTo>
                    <a:lnTo>
                      <a:pt x="1872" y="2304"/>
                    </a:lnTo>
                    <a:lnTo>
                      <a:pt x="1872" y="2784"/>
                    </a:lnTo>
                    <a:lnTo>
                      <a:pt x="3792" y="2784"/>
                    </a:lnTo>
                    <a:lnTo>
                      <a:pt x="3792" y="2304"/>
                    </a:lnTo>
                    <a:lnTo>
                      <a:pt x="4128" y="2304"/>
                    </a:lnTo>
                    <a:lnTo>
                      <a:pt x="4128" y="1872"/>
                    </a:lnTo>
                    <a:lnTo>
                      <a:pt x="2928" y="1872"/>
                    </a:lnTo>
                    <a:lnTo>
                      <a:pt x="2928" y="0"/>
                    </a:lnTo>
                    <a:lnTo>
                      <a:pt x="2544" y="0"/>
                    </a:lnTo>
                    <a:lnTo>
                      <a:pt x="2544" y="1920"/>
                    </a:lnTo>
                    <a:lnTo>
                      <a:pt x="0" y="1920"/>
                    </a:lnTo>
                    <a:lnTo>
                      <a:pt x="0" y="2304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5"/>
              <p:cNvSpPr/>
              <p:nvPr/>
            </p:nvSpPr>
            <p:spPr>
              <a:xfrm flipV="1">
                <a:off x="1220400" y="1228680"/>
                <a:ext cx="5311800" cy="3578400"/>
              </a:xfrm>
              <a:custGeom>
                <a:avLst/>
                <a:gdLst>
                  <a:gd name="textAreaLeft" fmla="*/ 0 w 5311800"/>
                  <a:gd name="textAreaRight" fmla="*/ 5312160 w 5311800"/>
                  <a:gd name="textAreaTop" fmla="*/ 360 h 3578400"/>
                  <a:gd name="textAreaBottom" fmla="*/ 3579120 h 3578400"/>
                </a:gdLst>
                <a:ahLst/>
                <a:rect l="textAreaLeft" t="textAreaTop" r="textAreaRight" b="textAreaBottom"/>
                <a:pathLst>
                  <a:path w="4128" h="2784">
                    <a:moveTo>
                      <a:pt x="0" y="2304"/>
                    </a:moveTo>
                    <a:lnTo>
                      <a:pt x="1872" y="2304"/>
                    </a:lnTo>
                    <a:lnTo>
                      <a:pt x="1872" y="2784"/>
                    </a:lnTo>
                    <a:lnTo>
                      <a:pt x="3792" y="2784"/>
                    </a:lnTo>
                    <a:lnTo>
                      <a:pt x="3792" y="2304"/>
                    </a:lnTo>
                    <a:lnTo>
                      <a:pt x="4128" y="2304"/>
                    </a:lnTo>
                    <a:lnTo>
                      <a:pt x="4128" y="1872"/>
                    </a:lnTo>
                    <a:lnTo>
                      <a:pt x="2928" y="1872"/>
                    </a:lnTo>
                    <a:lnTo>
                      <a:pt x="2928" y="0"/>
                    </a:lnTo>
                    <a:lnTo>
                      <a:pt x="2544" y="0"/>
                    </a:lnTo>
                    <a:lnTo>
                      <a:pt x="2544" y="1920"/>
                    </a:lnTo>
                    <a:lnTo>
                      <a:pt x="0" y="1920"/>
                    </a:lnTo>
                    <a:lnTo>
                      <a:pt x="0" y="2304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Line 6"/>
            <p:cNvSpPr/>
            <p:nvPr/>
          </p:nvSpPr>
          <p:spPr>
            <a:xfrm>
              <a:off x="1219320" y="994680"/>
              <a:ext cx="679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7"/>
            <p:cNvSpPr/>
            <p:nvPr/>
          </p:nvSpPr>
          <p:spPr>
            <a:xfrm>
              <a:off x="4236840" y="762120"/>
              <a:ext cx="122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 ft / 46 m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8083440" y="1200240"/>
              <a:ext cx="0" cy="52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 rot="16200000">
              <a:off x="7280640" y="3315600"/>
              <a:ext cx="122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10 ft / 34 m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Text Box 10"/>
          <p:cNvSpPr/>
          <p:nvPr/>
        </p:nvSpPr>
        <p:spPr>
          <a:xfrm>
            <a:off x="838080" y="2895480"/>
            <a:ext cx="3276720" cy="1372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Two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H-Shape  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150’ x 110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48"/>
          <p:cNvGrpSpPr/>
          <p:nvPr/>
        </p:nvGrpSpPr>
        <p:grpSpPr>
          <a:xfrm>
            <a:off x="2114640" y="3095640"/>
            <a:ext cx="3201480" cy="2287440"/>
            <a:chOff x="2114640" y="3095640"/>
            <a:chExt cx="3201480" cy="2287440"/>
          </a:xfrm>
        </p:grpSpPr>
        <p:grpSp>
          <p:nvGrpSpPr>
            <p:cNvPr id="83" name="Group 149"/>
            <p:cNvGrpSpPr/>
            <p:nvPr/>
          </p:nvGrpSpPr>
          <p:grpSpPr>
            <a:xfrm>
              <a:off x="2114640" y="3095640"/>
              <a:ext cx="3201480" cy="2135160"/>
              <a:chOff x="2114640" y="3095640"/>
              <a:chExt cx="3201480" cy="2135160"/>
            </a:xfrm>
          </p:grpSpPr>
          <p:sp>
            <p:nvSpPr>
              <p:cNvPr id="84" name="Freeform 150"/>
              <p:cNvSpPr/>
              <p:nvPr/>
            </p:nvSpPr>
            <p:spPr>
              <a:xfrm>
                <a:off x="2138040" y="3095640"/>
                <a:ext cx="3178080" cy="2133720"/>
              </a:xfrm>
              <a:custGeom>
                <a:avLst/>
                <a:gdLst>
                  <a:gd name="textAreaLeft" fmla="*/ 0 w 3178080"/>
                  <a:gd name="textAreaRight" fmla="*/ 3178440 w 3178080"/>
                  <a:gd name="textAreaTop" fmla="*/ 0 h 2133720"/>
                  <a:gd name="textAreaBottom" fmla="*/ 2134080 h 2133720"/>
                </a:gdLst>
                <a:ahLst/>
                <a:rect l="textAreaLeft" t="textAreaTop" r="textAreaRight" b="textAreaBottom"/>
                <a:pathLst>
                  <a:path w="4128" h="2784">
                    <a:moveTo>
                      <a:pt x="0" y="2304"/>
                    </a:moveTo>
                    <a:lnTo>
                      <a:pt x="1872" y="2304"/>
                    </a:lnTo>
                    <a:lnTo>
                      <a:pt x="1872" y="2784"/>
                    </a:lnTo>
                    <a:lnTo>
                      <a:pt x="3792" y="2784"/>
                    </a:lnTo>
                    <a:lnTo>
                      <a:pt x="3792" y="2304"/>
                    </a:lnTo>
                    <a:lnTo>
                      <a:pt x="4128" y="2304"/>
                    </a:lnTo>
                    <a:lnTo>
                      <a:pt x="4128" y="1872"/>
                    </a:lnTo>
                    <a:lnTo>
                      <a:pt x="2928" y="1872"/>
                    </a:lnTo>
                    <a:lnTo>
                      <a:pt x="2928" y="0"/>
                    </a:lnTo>
                    <a:lnTo>
                      <a:pt x="2544" y="0"/>
                    </a:lnTo>
                    <a:lnTo>
                      <a:pt x="2544" y="1920"/>
                    </a:lnTo>
                    <a:lnTo>
                      <a:pt x="0" y="1920"/>
                    </a:lnTo>
                    <a:lnTo>
                      <a:pt x="0" y="2304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" name="Group 151"/>
              <p:cNvGrpSpPr/>
              <p:nvPr/>
            </p:nvGrpSpPr>
            <p:grpSpPr>
              <a:xfrm>
                <a:off x="2114640" y="3097080"/>
                <a:ext cx="3200040" cy="2133720"/>
                <a:chOff x="2114640" y="3097080"/>
                <a:chExt cx="3200040" cy="2133720"/>
              </a:xfrm>
            </p:grpSpPr>
            <p:sp>
              <p:nvSpPr>
                <p:cNvPr id="86" name="Text Box 152"/>
                <p:cNvSpPr/>
                <p:nvPr/>
              </p:nvSpPr>
              <p:spPr>
                <a:xfrm>
                  <a:off x="2885400" y="4672080"/>
                  <a:ext cx="733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5’/ 32 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153"/>
                <p:cNvSpPr/>
                <p:nvPr/>
              </p:nvSpPr>
              <p:spPr>
                <a:xfrm>
                  <a:off x="2114640" y="4659480"/>
                  <a:ext cx="32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sm"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154"/>
                <p:cNvSpPr/>
                <p:nvPr/>
              </p:nvSpPr>
              <p:spPr>
                <a:xfrm>
                  <a:off x="4298760" y="3097080"/>
                  <a:ext cx="0" cy="21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sm"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Text Box 155"/>
                <p:cNvSpPr/>
                <p:nvPr/>
              </p:nvSpPr>
              <p:spPr>
                <a:xfrm rot="16200000">
                  <a:off x="3875040" y="3780720"/>
                  <a:ext cx="648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0’/ 21 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" name="Group 156"/>
            <p:cNvGrpSpPr/>
            <p:nvPr/>
          </p:nvGrpSpPr>
          <p:grpSpPr>
            <a:xfrm>
              <a:off x="3485880" y="4287240"/>
              <a:ext cx="152280" cy="281160"/>
              <a:chOff x="3485880" y="4287240"/>
              <a:chExt cx="152280" cy="281160"/>
            </a:xfrm>
          </p:grpSpPr>
          <p:sp>
            <p:nvSpPr>
              <p:cNvPr id="91" name="Rectangle 157"/>
              <p:cNvSpPr/>
              <p:nvPr/>
            </p:nvSpPr>
            <p:spPr>
              <a:xfrm rot="16200000">
                <a:off x="3421440" y="4351680"/>
                <a:ext cx="28116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158"/>
              <p:cNvSpPr/>
              <p:nvPr/>
            </p:nvSpPr>
            <p:spPr>
              <a:xfrm>
                <a:off x="3485880" y="4432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159"/>
              <p:cNvSpPr/>
              <p:nvPr/>
            </p:nvSpPr>
            <p:spPr>
              <a:xfrm>
                <a:off x="3485880" y="4397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160"/>
              <p:cNvSpPr/>
              <p:nvPr/>
            </p:nvSpPr>
            <p:spPr>
              <a:xfrm>
                <a:off x="3485880" y="4357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161"/>
              <p:cNvSpPr/>
              <p:nvPr/>
            </p:nvSpPr>
            <p:spPr>
              <a:xfrm>
                <a:off x="3485880" y="4322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162"/>
            <p:cNvGrpSpPr/>
            <p:nvPr/>
          </p:nvGrpSpPr>
          <p:grpSpPr>
            <a:xfrm>
              <a:off x="4552920" y="5230800"/>
              <a:ext cx="304200" cy="152280"/>
              <a:chOff x="4552920" y="5230800"/>
              <a:chExt cx="304200" cy="152280"/>
            </a:xfrm>
          </p:grpSpPr>
          <p:sp>
            <p:nvSpPr>
              <p:cNvPr id="97" name="Rectangle 163"/>
              <p:cNvSpPr/>
              <p:nvPr/>
            </p:nvSpPr>
            <p:spPr>
              <a:xfrm>
                <a:off x="4552920" y="5230800"/>
                <a:ext cx="30420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164"/>
              <p:cNvSpPr/>
              <p:nvPr/>
            </p:nvSpPr>
            <p:spPr>
              <a:xfrm>
                <a:off x="4700160" y="5230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165"/>
              <p:cNvSpPr/>
              <p:nvPr/>
            </p:nvSpPr>
            <p:spPr>
              <a:xfrm>
                <a:off x="4737960" y="5230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66"/>
              <p:cNvSpPr/>
              <p:nvPr/>
            </p:nvSpPr>
            <p:spPr>
              <a:xfrm>
                <a:off x="4780800" y="5230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67"/>
              <p:cNvSpPr/>
              <p:nvPr/>
            </p:nvSpPr>
            <p:spPr>
              <a:xfrm>
                <a:off x="4818960" y="5230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Group 128"/>
          <p:cNvGrpSpPr/>
          <p:nvPr/>
        </p:nvGrpSpPr>
        <p:grpSpPr>
          <a:xfrm>
            <a:off x="304920" y="1924200"/>
            <a:ext cx="3201480" cy="2287440"/>
            <a:chOff x="304920" y="1924200"/>
            <a:chExt cx="3201480" cy="2287440"/>
          </a:xfrm>
        </p:grpSpPr>
        <p:grpSp>
          <p:nvGrpSpPr>
            <p:cNvPr id="103" name="Group 129"/>
            <p:cNvGrpSpPr/>
            <p:nvPr/>
          </p:nvGrpSpPr>
          <p:grpSpPr>
            <a:xfrm>
              <a:off x="304920" y="1924200"/>
              <a:ext cx="3201480" cy="2135160"/>
              <a:chOff x="304920" y="1924200"/>
              <a:chExt cx="3201480" cy="2135160"/>
            </a:xfrm>
          </p:grpSpPr>
          <p:sp>
            <p:nvSpPr>
              <p:cNvPr id="104" name="Freeform 130"/>
              <p:cNvSpPr/>
              <p:nvPr/>
            </p:nvSpPr>
            <p:spPr>
              <a:xfrm>
                <a:off x="328320" y="1924200"/>
                <a:ext cx="3178080" cy="2133720"/>
              </a:xfrm>
              <a:custGeom>
                <a:avLst/>
                <a:gdLst>
                  <a:gd name="textAreaLeft" fmla="*/ 0 w 3178080"/>
                  <a:gd name="textAreaRight" fmla="*/ 3178440 w 3178080"/>
                  <a:gd name="textAreaTop" fmla="*/ 0 h 2133720"/>
                  <a:gd name="textAreaBottom" fmla="*/ 2134080 h 2133720"/>
                </a:gdLst>
                <a:ahLst/>
                <a:rect l="textAreaLeft" t="textAreaTop" r="textAreaRight" b="textAreaBottom"/>
                <a:pathLst>
                  <a:path w="4128" h="2784">
                    <a:moveTo>
                      <a:pt x="0" y="2304"/>
                    </a:moveTo>
                    <a:lnTo>
                      <a:pt x="1872" y="2304"/>
                    </a:lnTo>
                    <a:lnTo>
                      <a:pt x="1872" y="2784"/>
                    </a:lnTo>
                    <a:lnTo>
                      <a:pt x="3792" y="2784"/>
                    </a:lnTo>
                    <a:lnTo>
                      <a:pt x="3792" y="2304"/>
                    </a:lnTo>
                    <a:lnTo>
                      <a:pt x="4128" y="2304"/>
                    </a:lnTo>
                    <a:lnTo>
                      <a:pt x="4128" y="1872"/>
                    </a:lnTo>
                    <a:lnTo>
                      <a:pt x="2928" y="1872"/>
                    </a:lnTo>
                    <a:lnTo>
                      <a:pt x="2928" y="0"/>
                    </a:lnTo>
                    <a:lnTo>
                      <a:pt x="2544" y="0"/>
                    </a:lnTo>
                    <a:lnTo>
                      <a:pt x="2544" y="1920"/>
                    </a:lnTo>
                    <a:lnTo>
                      <a:pt x="0" y="1920"/>
                    </a:lnTo>
                    <a:lnTo>
                      <a:pt x="0" y="2304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Group 131"/>
              <p:cNvGrpSpPr/>
              <p:nvPr/>
            </p:nvGrpSpPr>
            <p:grpSpPr>
              <a:xfrm>
                <a:off x="304920" y="1925640"/>
                <a:ext cx="3200040" cy="2133720"/>
                <a:chOff x="304920" y="1925640"/>
                <a:chExt cx="3200040" cy="2133720"/>
              </a:xfrm>
            </p:grpSpPr>
            <p:sp>
              <p:nvSpPr>
                <p:cNvPr id="106" name="Text Box 132"/>
                <p:cNvSpPr/>
                <p:nvPr/>
              </p:nvSpPr>
              <p:spPr>
                <a:xfrm>
                  <a:off x="1075680" y="3500640"/>
                  <a:ext cx="733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5’/ 32 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33"/>
                <p:cNvSpPr/>
                <p:nvPr/>
              </p:nvSpPr>
              <p:spPr>
                <a:xfrm>
                  <a:off x="304920" y="3488040"/>
                  <a:ext cx="32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sm"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34"/>
                <p:cNvSpPr/>
                <p:nvPr/>
              </p:nvSpPr>
              <p:spPr>
                <a:xfrm>
                  <a:off x="2489040" y="1925640"/>
                  <a:ext cx="0" cy="21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sm"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Text Box 135"/>
                <p:cNvSpPr/>
                <p:nvPr/>
              </p:nvSpPr>
              <p:spPr>
                <a:xfrm rot="16200000">
                  <a:off x="2065320" y="2609280"/>
                  <a:ext cx="648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0’/ 21 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Group 136"/>
            <p:cNvGrpSpPr/>
            <p:nvPr/>
          </p:nvGrpSpPr>
          <p:grpSpPr>
            <a:xfrm>
              <a:off x="1676160" y="3115800"/>
              <a:ext cx="152280" cy="281160"/>
              <a:chOff x="1676160" y="3115800"/>
              <a:chExt cx="152280" cy="281160"/>
            </a:xfrm>
          </p:grpSpPr>
          <p:sp>
            <p:nvSpPr>
              <p:cNvPr id="111" name="Rectangle 137"/>
              <p:cNvSpPr/>
              <p:nvPr/>
            </p:nvSpPr>
            <p:spPr>
              <a:xfrm rot="16200000">
                <a:off x="1611720" y="3180240"/>
                <a:ext cx="28116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38"/>
              <p:cNvSpPr/>
              <p:nvPr/>
            </p:nvSpPr>
            <p:spPr>
              <a:xfrm>
                <a:off x="1676160" y="3260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139"/>
              <p:cNvSpPr/>
              <p:nvPr/>
            </p:nvSpPr>
            <p:spPr>
              <a:xfrm>
                <a:off x="1676160" y="32259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140"/>
              <p:cNvSpPr/>
              <p:nvPr/>
            </p:nvSpPr>
            <p:spPr>
              <a:xfrm>
                <a:off x="1676160" y="3186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141"/>
              <p:cNvSpPr/>
              <p:nvPr/>
            </p:nvSpPr>
            <p:spPr>
              <a:xfrm>
                <a:off x="1676160" y="3151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142"/>
            <p:cNvGrpSpPr/>
            <p:nvPr/>
          </p:nvGrpSpPr>
          <p:grpSpPr>
            <a:xfrm>
              <a:off x="2743200" y="4059360"/>
              <a:ext cx="304200" cy="152280"/>
              <a:chOff x="2743200" y="4059360"/>
              <a:chExt cx="304200" cy="152280"/>
            </a:xfrm>
          </p:grpSpPr>
          <p:sp>
            <p:nvSpPr>
              <p:cNvPr id="117" name="Rectangle 143"/>
              <p:cNvSpPr/>
              <p:nvPr/>
            </p:nvSpPr>
            <p:spPr>
              <a:xfrm>
                <a:off x="2743200" y="4059360"/>
                <a:ext cx="30420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144"/>
              <p:cNvSpPr/>
              <p:nvPr/>
            </p:nvSpPr>
            <p:spPr>
              <a:xfrm>
                <a:off x="2890440" y="40593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145"/>
              <p:cNvSpPr/>
              <p:nvPr/>
            </p:nvSpPr>
            <p:spPr>
              <a:xfrm>
                <a:off x="2928240" y="40593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146"/>
              <p:cNvSpPr/>
              <p:nvPr/>
            </p:nvSpPr>
            <p:spPr>
              <a:xfrm>
                <a:off x="2971080" y="40593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147"/>
              <p:cNvSpPr/>
              <p:nvPr/>
            </p:nvSpPr>
            <p:spPr>
              <a:xfrm>
                <a:off x="3009240" y="40593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Text Box 12"/>
          <p:cNvSpPr/>
          <p:nvPr/>
        </p:nvSpPr>
        <p:spPr>
          <a:xfrm>
            <a:off x="457200" y="228600"/>
            <a:ext cx="4267080" cy="130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Fishbone layout (X ,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1 TM     = 105’ x   70’  (32 x 21 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2 TM’s  = 170’ x 120’  (52 x 34 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3 TM’s  = 220’ x 170’  (67 x 52 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4 TM’s  = 290’ x 170’  (85 x 52 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91"/>
          <p:cNvGrpSpPr/>
          <p:nvPr/>
        </p:nvGrpSpPr>
        <p:grpSpPr>
          <a:xfrm>
            <a:off x="317520" y="2590920"/>
            <a:ext cx="8086320" cy="3733560"/>
            <a:chOff x="317520" y="2590920"/>
            <a:chExt cx="8086320" cy="3733560"/>
          </a:xfrm>
        </p:grpSpPr>
        <p:grpSp>
          <p:nvGrpSpPr>
            <p:cNvPr id="124" name="Group 70"/>
            <p:cNvGrpSpPr/>
            <p:nvPr/>
          </p:nvGrpSpPr>
          <p:grpSpPr>
            <a:xfrm>
              <a:off x="3276720" y="5486400"/>
              <a:ext cx="5114520" cy="228960"/>
              <a:chOff x="3276720" y="5486400"/>
              <a:chExt cx="5114520" cy="228960"/>
            </a:xfrm>
          </p:grpSpPr>
          <p:sp>
            <p:nvSpPr>
              <p:cNvPr id="125" name="Line 28"/>
              <p:cNvSpPr/>
              <p:nvPr/>
            </p:nvSpPr>
            <p:spPr>
              <a:xfrm>
                <a:off x="3276720" y="5486400"/>
                <a:ext cx="511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29"/>
              <p:cNvSpPr/>
              <p:nvPr/>
            </p:nvSpPr>
            <p:spPr>
              <a:xfrm>
                <a:off x="5825160" y="5532480"/>
                <a:ext cx="776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70’ / 52 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71"/>
            <p:cNvGrpSpPr/>
            <p:nvPr/>
          </p:nvGrpSpPr>
          <p:grpSpPr>
            <a:xfrm>
              <a:off x="317520" y="6024600"/>
              <a:ext cx="8086320" cy="249120"/>
              <a:chOff x="317520" y="6024600"/>
              <a:chExt cx="8086320" cy="249120"/>
            </a:xfrm>
          </p:grpSpPr>
          <p:sp>
            <p:nvSpPr>
              <p:cNvPr id="128" name="Line 72"/>
              <p:cNvSpPr/>
              <p:nvPr/>
            </p:nvSpPr>
            <p:spPr>
              <a:xfrm>
                <a:off x="317520" y="6024600"/>
                <a:ext cx="808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Text Box 73"/>
              <p:cNvSpPr/>
              <p:nvPr/>
            </p:nvSpPr>
            <p:spPr>
              <a:xfrm>
                <a:off x="4349160" y="6090840"/>
                <a:ext cx="776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80’ / 85 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74"/>
            <p:cNvGrpSpPr/>
            <p:nvPr/>
          </p:nvGrpSpPr>
          <p:grpSpPr>
            <a:xfrm>
              <a:off x="2120760" y="5727600"/>
              <a:ext cx="6270480" cy="267120"/>
              <a:chOff x="2120760" y="5727600"/>
              <a:chExt cx="6270480" cy="267120"/>
            </a:xfrm>
          </p:grpSpPr>
          <p:sp>
            <p:nvSpPr>
              <p:cNvPr id="131" name="Line 75"/>
              <p:cNvSpPr/>
              <p:nvPr/>
            </p:nvSpPr>
            <p:spPr>
              <a:xfrm>
                <a:off x="2120760" y="5727600"/>
                <a:ext cx="627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76"/>
              <p:cNvSpPr/>
              <p:nvPr/>
            </p:nvSpPr>
            <p:spPr>
              <a:xfrm>
                <a:off x="5246640" y="5811840"/>
                <a:ext cx="776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20’ / 67 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Line 79"/>
            <p:cNvSpPr/>
            <p:nvPr/>
          </p:nvSpPr>
          <p:spPr>
            <a:xfrm>
              <a:off x="3314880" y="2590920"/>
              <a:ext cx="0" cy="297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80"/>
            <p:cNvSpPr/>
            <p:nvPr/>
          </p:nvSpPr>
          <p:spPr>
            <a:xfrm>
              <a:off x="8381880" y="3733920"/>
              <a:ext cx="0" cy="2590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81"/>
            <p:cNvSpPr/>
            <p:nvPr/>
          </p:nvSpPr>
          <p:spPr>
            <a:xfrm>
              <a:off x="2133720" y="4863960"/>
              <a:ext cx="0" cy="99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83"/>
            <p:cNvSpPr/>
            <p:nvPr/>
          </p:nvSpPr>
          <p:spPr>
            <a:xfrm>
              <a:off x="317520" y="3772080"/>
              <a:ext cx="0" cy="2361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66"/>
          <p:cNvGrpSpPr/>
          <p:nvPr/>
        </p:nvGrpSpPr>
        <p:grpSpPr>
          <a:xfrm>
            <a:off x="8305920" y="825480"/>
            <a:ext cx="459000" cy="3381480"/>
            <a:chOff x="8305920" y="825480"/>
            <a:chExt cx="459000" cy="3381480"/>
          </a:xfrm>
        </p:grpSpPr>
        <p:sp>
          <p:nvSpPr>
            <p:cNvPr id="138" name="Line 31"/>
            <p:cNvSpPr/>
            <p:nvPr/>
          </p:nvSpPr>
          <p:spPr>
            <a:xfrm>
              <a:off x="8577360" y="825480"/>
              <a:ext cx="0" cy="33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32"/>
            <p:cNvSpPr/>
            <p:nvPr/>
          </p:nvSpPr>
          <p:spPr>
            <a:xfrm rot="16200000">
              <a:off x="8079480" y="2016720"/>
              <a:ext cx="911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0’/ 34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67"/>
          <p:cNvGrpSpPr/>
          <p:nvPr/>
        </p:nvGrpSpPr>
        <p:grpSpPr>
          <a:xfrm>
            <a:off x="8640720" y="822240"/>
            <a:ext cx="276480" cy="4435200"/>
            <a:chOff x="8640720" y="822240"/>
            <a:chExt cx="276480" cy="4435200"/>
          </a:xfrm>
        </p:grpSpPr>
        <p:sp>
          <p:nvSpPr>
            <p:cNvPr id="141" name="Line 68"/>
            <p:cNvSpPr/>
            <p:nvPr/>
          </p:nvSpPr>
          <p:spPr>
            <a:xfrm>
              <a:off x="8912160" y="822240"/>
              <a:ext cx="0" cy="44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69"/>
            <p:cNvSpPr/>
            <p:nvPr/>
          </p:nvSpPr>
          <p:spPr>
            <a:xfrm rot="16200000">
              <a:off x="8181000" y="2547000"/>
              <a:ext cx="119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70’/ 52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Line 84"/>
          <p:cNvSpPr/>
          <p:nvPr/>
        </p:nvSpPr>
        <p:spPr>
          <a:xfrm>
            <a:off x="5626080" y="838080"/>
            <a:ext cx="3429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85"/>
          <p:cNvSpPr/>
          <p:nvPr/>
        </p:nvSpPr>
        <p:spPr>
          <a:xfrm>
            <a:off x="4902120" y="5232240"/>
            <a:ext cx="4114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86"/>
          <p:cNvSpPr/>
          <p:nvPr/>
        </p:nvSpPr>
        <p:spPr>
          <a:xfrm>
            <a:off x="8077320" y="419112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07"/>
          <p:cNvGrpSpPr/>
          <p:nvPr/>
        </p:nvGrpSpPr>
        <p:grpSpPr>
          <a:xfrm>
            <a:off x="5181480" y="2055960"/>
            <a:ext cx="3202200" cy="2287440"/>
            <a:chOff x="5181480" y="2055960"/>
            <a:chExt cx="3202200" cy="2287440"/>
          </a:xfrm>
        </p:grpSpPr>
        <p:grpSp>
          <p:nvGrpSpPr>
            <p:cNvPr id="147" name="Group 78"/>
            <p:cNvGrpSpPr/>
            <p:nvPr/>
          </p:nvGrpSpPr>
          <p:grpSpPr>
            <a:xfrm>
              <a:off x="5181480" y="2055960"/>
              <a:ext cx="3202200" cy="2135160"/>
              <a:chOff x="5181480" y="2055960"/>
              <a:chExt cx="3202200" cy="2135160"/>
            </a:xfrm>
          </p:grpSpPr>
          <p:sp>
            <p:nvSpPr>
              <p:cNvPr id="148" name="Freeform 25"/>
              <p:cNvSpPr/>
              <p:nvPr/>
            </p:nvSpPr>
            <p:spPr>
              <a:xfrm>
                <a:off x="5205240" y="2055960"/>
                <a:ext cx="3178440" cy="2133720"/>
              </a:xfrm>
              <a:custGeom>
                <a:avLst/>
                <a:gdLst>
                  <a:gd name="textAreaLeft" fmla="*/ 0 w 3178440"/>
                  <a:gd name="textAreaRight" fmla="*/ 3178800 w 3178440"/>
                  <a:gd name="textAreaTop" fmla="*/ 0 h 2133720"/>
                  <a:gd name="textAreaBottom" fmla="*/ 2134080 h 2133720"/>
                </a:gdLst>
                <a:ahLst/>
                <a:rect l="textAreaLeft" t="textAreaTop" r="textAreaRight" b="textAreaBottom"/>
                <a:pathLst>
                  <a:path w="4128" h="2784">
                    <a:moveTo>
                      <a:pt x="0" y="2304"/>
                    </a:moveTo>
                    <a:lnTo>
                      <a:pt x="1872" y="2304"/>
                    </a:lnTo>
                    <a:lnTo>
                      <a:pt x="1872" y="2784"/>
                    </a:lnTo>
                    <a:lnTo>
                      <a:pt x="3792" y="2784"/>
                    </a:lnTo>
                    <a:lnTo>
                      <a:pt x="3792" y="2304"/>
                    </a:lnTo>
                    <a:lnTo>
                      <a:pt x="4128" y="2304"/>
                    </a:lnTo>
                    <a:lnTo>
                      <a:pt x="4128" y="1872"/>
                    </a:lnTo>
                    <a:lnTo>
                      <a:pt x="2928" y="1872"/>
                    </a:lnTo>
                    <a:lnTo>
                      <a:pt x="2928" y="0"/>
                    </a:lnTo>
                    <a:lnTo>
                      <a:pt x="2544" y="0"/>
                    </a:lnTo>
                    <a:lnTo>
                      <a:pt x="2544" y="1920"/>
                    </a:lnTo>
                    <a:lnTo>
                      <a:pt x="0" y="1920"/>
                    </a:lnTo>
                    <a:lnTo>
                      <a:pt x="0" y="2304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Group 53"/>
              <p:cNvGrpSpPr/>
              <p:nvPr/>
            </p:nvGrpSpPr>
            <p:grpSpPr>
              <a:xfrm>
                <a:off x="5181480" y="2057400"/>
                <a:ext cx="3200400" cy="2133720"/>
                <a:chOff x="5181480" y="2057400"/>
                <a:chExt cx="3200400" cy="2133720"/>
              </a:xfrm>
            </p:grpSpPr>
            <p:sp>
              <p:nvSpPr>
                <p:cNvPr id="150" name="Text Box 54"/>
                <p:cNvSpPr/>
                <p:nvPr/>
              </p:nvSpPr>
              <p:spPr>
                <a:xfrm>
                  <a:off x="5952960" y="3632400"/>
                  <a:ext cx="733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5’/ 32 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55"/>
                <p:cNvSpPr/>
                <p:nvPr/>
              </p:nvSpPr>
              <p:spPr>
                <a:xfrm>
                  <a:off x="5181480" y="3619800"/>
                  <a:ext cx="320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sm"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56"/>
                <p:cNvSpPr/>
                <p:nvPr/>
              </p:nvSpPr>
              <p:spPr>
                <a:xfrm>
                  <a:off x="7365960" y="2057400"/>
                  <a:ext cx="0" cy="21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sm"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Text Box 57"/>
                <p:cNvSpPr/>
                <p:nvPr/>
              </p:nvSpPr>
              <p:spPr>
                <a:xfrm rot="16200000">
                  <a:off x="6942240" y="2741040"/>
                  <a:ext cx="648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0’/ 21 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" name="Group 100"/>
            <p:cNvGrpSpPr/>
            <p:nvPr/>
          </p:nvGrpSpPr>
          <p:grpSpPr>
            <a:xfrm>
              <a:off x="6553080" y="3247560"/>
              <a:ext cx="152280" cy="281160"/>
              <a:chOff x="6553080" y="3247560"/>
              <a:chExt cx="152280" cy="281160"/>
            </a:xfrm>
          </p:grpSpPr>
          <p:sp>
            <p:nvSpPr>
              <p:cNvPr id="155" name="Rectangle 93"/>
              <p:cNvSpPr/>
              <p:nvPr/>
            </p:nvSpPr>
            <p:spPr>
              <a:xfrm rot="16200000">
                <a:off x="6488640" y="3312000"/>
                <a:ext cx="28116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95"/>
              <p:cNvSpPr/>
              <p:nvPr/>
            </p:nvSpPr>
            <p:spPr>
              <a:xfrm>
                <a:off x="6553080" y="33926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96"/>
              <p:cNvSpPr/>
              <p:nvPr/>
            </p:nvSpPr>
            <p:spPr>
              <a:xfrm>
                <a:off x="6553080" y="3357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97"/>
              <p:cNvSpPr/>
              <p:nvPr/>
            </p:nvSpPr>
            <p:spPr>
              <a:xfrm>
                <a:off x="6553080" y="3318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98"/>
              <p:cNvSpPr/>
              <p:nvPr/>
            </p:nvSpPr>
            <p:spPr>
              <a:xfrm>
                <a:off x="6553080" y="3282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Group 101"/>
            <p:cNvGrpSpPr/>
            <p:nvPr/>
          </p:nvGrpSpPr>
          <p:grpSpPr>
            <a:xfrm>
              <a:off x="7620120" y="4191120"/>
              <a:ext cx="304560" cy="152280"/>
              <a:chOff x="7620120" y="4191120"/>
              <a:chExt cx="304560" cy="152280"/>
            </a:xfrm>
          </p:grpSpPr>
          <p:sp>
            <p:nvSpPr>
              <p:cNvPr id="161" name="Rectangle 102"/>
              <p:cNvSpPr/>
              <p:nvPr/>
            </p:nvSpPr>
            <p:spPr>
              <a:xfrm>
                <a:off x="7620120" y="4191120"/>
                <a:ext cx="30456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103"/>
              <p:cNvSpPr/>
              <p:nvPr/>
            </p:nvSpPr>
            <p:spPr>
              <a:xfrm>
                <a:off x="776736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104"/>
              <p:cNvSpPr/>
              <p:nvPr/>
            </p:nvSpPr>
            <p:spPr>
              <a:xfrm>
                <a:off x="780552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105"/>
              <p:cNvSpPr/>
              <p:nvPr/>
            </p:nvSpPr>
            <p:spPr>
              <a:xfrm>
                <a:off x="784836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106"/>
              <p:cNvSpPr/>
              <p:nvPr/>
            </p:nvSpPr>
            <p:spPr>
              <a:xfrm>
                <a:off x="788652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Group 108"/>
          <p:cNvGrpSpPr/>
          <p:nvPr/>
        </p:nvGrpSpPr>
        <p:grpSpPr>
          <a:xfrm>
            <a:off x="3303720" y="838080"/>
            <a:ext cx="3201480" cy="2287440"/>
            <a:chOff x="3303720" y="838080"/>
            <a:chExt cx="3201480" cy="2287440"/>
          </a:xfrm>
        </p:grpSpPr>
        <p:grpSp>
          <p:nvGrpSpPr>
            <p:cNvPr id="167" name="Group 109"/>
            <p:cNvGrpSpPr/>
            <p:nvPr/>
          </p:nvGrpSpPr>
          <p:grpSpPr>
            <a:xfrm>
              <a:off x="3303720" y="838080"/>
              <a:ext cx="3201480" cy="2135160"/>
              <a:chOff x="3303720" y="838080"/>
              <a:chExt cx="3201480" cy="2135160"/>
            </a:xfrm>
          </p:grpSpPr>
          <p:sp>
            <p:nvSpPr>
              <p:cNvPr id="168" name="Freeform 110"/>
              <p:cNvSpPr/>
              <p:nvPr/>
            </p:nvSpPr>
            <p:spPr>
              <a:xfrm>
                <a:off x="3327120" y="838080"/>
                <a:ext cx="3178080" cy="2133720"/>
              </a:xfrm>
              <a:custGeom>
                <a:avLst/>
                <a:gdLst>
                  <a:gd name="textAreaLeft" fmla="*/ 0 w 3178080"/>
                  <a:gd name="textAreaRight" fmla="*/ 3178440 w 3178080"/>
                  <a:gd name="textAreaTop" fmla="*/ 0 h 2133720"/>
                  <a:gd name="textAreaBottom" fmla="*/ 2134080 h 2133720"/>
                </a:gdLst>
                <a:ahLst/>
                <a:rect l="textAreaLeft" t="textAreaTop" r="textAreaRight" b="textAreaBottom"/>
                <a:pathLst>
                  <a:path w="4128" h="2784">
                    <a:moveTo>
                      <a:pt x="0" y="2304"/>
                    </a:moveTo>
                    <a:lnTo>
                      <a:pt x="1872" y="2304"/>
                    </a:lnTo>
                    <a:lnTo>
                      <a:pt x="1872" y="2784"/>
                    </a:lnTo>
                    <a:lnTo>
                      <a:pt x="3792" y="2784"/>
                    </a:lnTo>
                    <a:lnTo>
                      <a:pt x="3792" y="2304"/>
                    </a:lnTo>
                    <a:lnTo>
                      <a:pt x="4128" y="2304"/>
                    </a:lnTo>
                    <a:lnTo>
                      <a:pt x="4128" y="1872"/>
                    </a:lnTo>
                    <a:lnTo>
                      <a:pt x="2928" y="1872"/>
                    </a:lnTo>
                    <a:lnTo>
                      <a:pt x="2928" y="0"/>
                    </a:lnTo>
                    <a:lnTo>
                      <a:pt x="2544" y="0"/>
                    </a:lnTo>
                    <a:lnTo>
                      <a:pt x="2544" y="1920"/>
                    </a:lnTo>
                    <a:lnTo>
                      <a:pt x="0" y="1920"/>
                    </a:lnTo>
                    <a:lnTo>
                      <a:pt x="0" y="2304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Group 111"/>
              <p:cNvGrpSpPr/>
              <p:nvPr/>
            </p:nvGrpSpPr>
            <p:grpSpPr>
              <a:xfrm>
                <a:off x="3303720" y="839520"/>
                <a:ext cx="3200040" cy="2133720"/>
                <a:chOff x="3303720" y="839520"/>
                <a:chExt cx="3200040" cy="2133720"/>
              </a:xfrm>
            </p:grpSpPr>
            <p:sp>
              <p:nvSpPr>
                <p:cNvPr id="170" name="Text Box 112"/>
                <p:cNvSpPr/>
                <p:nvPr/>
              </p:nvSpPr>
              <p:spPr>
                <a:xfrm>
                  <a:off x="4074480" y="2414520"/>
                  <a:ext cx="733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5’/ 32 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113"/>
                <p:cNvSpPr/>
                <p:nvPr/>
              </p:nvSpPr>
              <p:spPr>
                <a:xfrm>
                  <a:off x="3303720" y="2401920"/>
                  <a:ext cx="32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sm"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114"/>
                <p:cNvSpPr/>
                <p:nvPr/>
              </p:nvSpPr>
              <p:spPr>
                <a:xfrm>
                  <a:off x="5487840" y="839520"/>
                  <a:ext cx="0" cy="21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sm"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Text Box 115"/>
                <p:cNvSpPr/>
                <p:nvPr/>
              </p:nvSpPr>
              <p:spPr>
                <a:xfrm rot="16200000">
                  <a:off x="5064120" y="1523160"/>
                  <a:ext cx="648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0’/ 21 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" name="Group 116"/>
            <p:cNvGrpSpPr/>
            <p:nvPr/>
          </p:nvGrpSpPr>
          <p:grpSpPr>
            <a:xfrm>
              <a:off x="4674960" y="2029680"/>
              <a:ext cx="152280" cy="281160"/>
              <a:chOff x="4674960" y="2029680"/>
              <a:chExt cx="152280" cy="281160"/>
            </a:xfrm>
          </p:grpSpPr>
          <p:sp>
            <p:nvSpPr>
              <p:cNvPr id="175" name="Rectangle 117"/>
              <p:cNvSpPr/>
              <p:nvPr/>
            </p:nvSpPr>
            <p:spPr>
              <a:xfrm rot="16200000">
                <a:off x="4610520" y="2094120"/>
                <a:ext cx="28116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18"/>
              <p:cNvSpPr/>
              <p:nvPr/>
            </p:nvSpPr>
            <p:spPr>
              <a:xfrm>
                <a:off x="4674960" y="21747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19"/>
              <p:cNvSpPr/>
              <p:nvPr/>
            </p:nvSpPr>
            <p:spPr>
              <a:xfrm>
                <a:off x="4674960" y="2139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20"/>
              <p:cNvSpPr/>
              <p:nvPr/>
            </p:nvSpPr>
            <p:spPr>
              <a:xfrm>
                <a:off x="4674960" y="21002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121"/>
              <p:cNvSpPr/>
              <p:nvPr/>
            </p:nvSpPr>
            <p:spPr>
              <a:xfrm>
                <a:off x="4674960" y="20649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122"/>
            <p:cNvGrpSpPr/>
            <p:nvPr/>
          </p:nvGrpSpPr>
          <p:grpSpPr>
            <a:xfrm>
              <a:off x="5742000" y="2973240"/>
              <a:ext cx="304200" cy="152280"/>
              <a:chOff x="5742000" y="2973240"/>
              <a:chExt cx="304200" cy="152280"/>
            </a:xfrm>
          </p:grpSpPr>
          <p:sp>
            <p:nvSpPr>
              <p:cNvPr id="181" name="Rectangle 123"/>
              <p:cNvSpPr/>
              <p:nvPr/>
            </p:nvSpPr>
            <p:spPr>
              <a:xfrm>
                <a:off x="5742000" y="2973240"/>
                <a:ext cx="30420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124"/>
              <p:cNvSpPr/>
              <p:nvPr/>
            </p:nvSpPr>
            <p:spPr>
              <a:xfrm>
                <a:off x="5889240" y="2973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125"/>
              <p:cNvSpPr/>
              <p:nvPr/>
            </p:nvSpPr>
            <p:spPr>
              <a:xfrm>
                <a:off x="5927040" y="2973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126"/>
              <p:cNvSpPr/>
              <p:nvPr/>
            </p:nvSpPr>
            <p:spPr>
              <a:xfrm>
                <a:off x="5969880" y="2973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127"/>
              <p:cNvSpPr/>
              <p:nvPr/>
            </p:nvSpPr>
            <p:spPr>
              <a:xfrm>
                <a:off x="6008040" y="2973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OverView_30"/>
          <p:cNvPicPr/>
          <p:nvPr/>
        </p:nvPicPr>
        <p:blipFill>
          <a:blip r:embed="rId1"/>
          <a:stretch/>
        </p:blipFill>
        <p:spPr>
          <a:xfrm>
            <a:off x="152280" y="9144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OverView_31"/>
          <p:cNvPicPr/>
          <p:nvPr/>
        </p:nvPicPr>
        <p:blipFill>
          <a:blip r:embed="rId2"/>
          <a:stretch/>
        </p:blipFill>
        <p:spPr>
          <a:xfrm>
            <a:off x="4572000" y="9144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3124080" y="5029200"/>
            <a:ext cx="2897280" cy="94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Basic foot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103’ 4” x 69’ 4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14:58:15Z</dcterms:created>
  <dc:creator>Rob Anthony</dc:creator>
  <dc:description/>
  <dc:language>en-US</dc:language>
  <cp:lastModifiedBy>Isaias Briceño</cp:lastModifiedBy>
  <dcterms:modified xsi:type="dcterms:W3CDTF">2009-07-03T11:45:00Z</dcterms:modified>
  <cp:revision>13</cp:revision>
  <dc:subject/>
  <dc:title>No Slide Title</dc:title>
</cp:coreProperties>
</file>